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C86-79CE-4893-990F-33E123E8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41B-0BC0-4A38-A3BE-DD25B03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CF1-F499-4221-ADAA-94116BD6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8EA-5AAB-4296-82BC-FB8D969D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F4E-B85E-45B5-95D6-5A2BB083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1444-E62B-475B-B4C6-F4AC51E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7A0C-5EE9-4B3B-AA8E-FA94FDE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53F-DF54-4A91-A6A5-91E878D3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F3EE-93D5-4DF7-89A6-642596CB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9E63-0263-4EA3-AA5F-676B4AD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833D-10AB-4ECF-8D77-D0340C3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0B1-D9AF-43E0-9D54-8970A770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9FCF-01DB-4EE8-9682-10F861C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7E23-8D39-4639-90FF-415D693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3113-E87E-4E30-A2B2-C1B25437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42D-F867-4909-ACF9-3456FE1C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08BE-5D31-4C66-A28C-EF5284E6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0B1FA-CCBB-49CA-AADB-205E3428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BDBE1-7E16-4ECA-AE1C-D0F9009A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FC4E3-1373-48CB-B4E8-3E220E9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6B9C-7EA4-4155-BCDA-095F3E7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33669-D314-4FF9-8F09-73AE8BA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DA0-0FC7-4828-9791-8F7EA58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32BC7-32B2-481D-A313-40035540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A526A-70C4-4B9F-8064-64781EB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5F606-BB55-4A33-9CAD-1FFEA62D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8409C-F8E0-48D9-9C09-13CF8DC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26F9E-34F3-4472-ACED-756AC58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A3FED-4102-4848-B20E-C5AE55D2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C2991-5197-493D-824D-D8CE0BDE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B2F1-10F2-4E61-8432-CA96E38B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92E0-8390-4F74-9304-1E905F5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6B28-BBB5-4747-8C57-59CAE18E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9CE-2A17-45A1-A189-6DEAA55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A081-4750-459E-BB9D-64E0807E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7024C-07D4-487D-816D-5AAE4C9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DDDE-C01D-4041-ACBF-1D7E58AD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20E1-F087-40CA-AABF-C84C1D3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DC2D-B79F-4203-9C7F-3F77A46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A0E8-CCCB-4CB0-957E-E184C5A6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BE42-CEBD-4911-8E93-3B0F33E6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64D7-6C49-46D9-ABF7-2646226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1C62-0E89-48D2-A607-13BB815E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C95-879E-4F2F-BD8E-08AECDE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C8F-F0BD-4A8B-9B23-A6F0EF1D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196-023E-4C01-BFD7-AD8D6F0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C11-47FA-4D49-AE0E-A404B05E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5AE-BA64-4E84-AEE9-C9F3C27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D8C96-24EA-4426-A05E-5D1C93CB81F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1D4BB-E29B-4D40-AC3F-AC47F583805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3A7E8-4FE5-4E15-912A-7C491E39B26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45510-D899-4F3E-A356-393DCE4A1A3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2B570-4129-42EA-9AB1-612ADA73DE8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F9F32-F1A5-427D-BD06-5F529CBEE63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B3D52-8B56-483F-97F1-376F41B42A8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2E867-F7BA-4963-A907-324BE3FA64E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lternative Energ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orld Geograp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pring 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ergy Resour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765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sil Fuels (oil, coal, natural gas) are considered non-renewable resourc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ntually, they will run ou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suming our demand does not change, new sources of energy will need to be found and implement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spcAft>
                <a:spcPts val="1199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 fact, demand is expected to increase due to population growth and the modernization of developing countrie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orld Energy Reser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Content Placeholder 3" descr="end-of-fossil-fuels-graph.jpg"/>
          <p:cNvPicPr/>
          <p:nvPr/>
        </p:nvPicPr>
        <p:blipFill>
          <a:blip r:embed="rId1"/>
          <a:srcRect l="-12276" t="0" r="-12276" b="0"/>
          <a:stretch/>
        </p:blipFill>
        <p:spPr>
          <a:xfrm>
            <a:off x="-176040" y="1676520"/>
            <a:ext cx="9320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ternative Energ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energy refers to energy sources that have fewer undesired consequences than fossil fuels (oil, coal, gasoline) d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are also renewable and considered 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.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 include wind, solar and hydropow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47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nt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and your partner(s) will be researching one type of alternative energ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will create a presentation using PowerPoint, Google Slides or Note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may use any of the information found on my website, as well as clip ar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chools.clipart.c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ame and password are ne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clude citations for any pictures you 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quirem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presentation, you must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 explanation of how your type of energy wor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w it is renewed?  Where does the energy come from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s: why would this be good to use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gatives: what would be problems with using this type of energy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will be showing your presentation to your classmates.  Make sure it is complete and easy to underst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6:31:17Z</dcterms:created>
  <dc:creator>CCPS</dc:creator>
  <dc:description/>
  <dc:language>en-US</dc:language>
  <cp:lastModifiedBy>Cecil County</cp:lastModifiedBy>
  <dcterms:modified xsi:type="dcterms:W3CDTF">2015-04-17T16:20:23Z</dcterms:modified>
  <cp:revision>4</cp:revision>
  <dc:subject/>
  <dc:title>Alternative Energy</dc:title>
</cp:coreProperties>
</file>